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2DB-9B89-455E-AC9A-84782D67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D36-6B34-4C1E-9C7B-D6EC2968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3A8-9DE5-4ED2-96D4-6C0AB777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AF0-D4BA-431C-B27B-CAB9160C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0E9-F1E6-4E1A-AC99-D4C524C0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371F-CC31-4EB2-91DB-C59C4C2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F6E-F3FB-403B-8ABD-30226FA6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8B9-3510-4174-9CD4-18E3DA28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F49-D47E-4AA2-9B02-631C4719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820-327D-479E-AF02-5417FD34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AAF-B431-41BB-9778-4E79241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E8F-2A2A-4B38-A2E2-D10E011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3944-D837-45C7-9C89-8C3E28D45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ears Of Sil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8, Lesson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22-1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609480"/>
            <a:ext cx="6705720" cy="764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Remnant Shall Retur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time will not permit a detailed study of Alexander the Great.  We will only hit the high points (and those quick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you read the section in the workbook (pages 124-129) about him.  An interesting period of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conquests changed the course of world history, even though the Macedonians (Greeks) did not attain “empire” status because he did not live long enough to rule over his conqu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father - Philip II of Mace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in 356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ed under Aristo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nd good lo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was a strategic area between the East (Asia Minor and Syria) and the West (Greece and Ita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North of the Aegean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 city states united in 336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II assassinated in 336 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immediately took role of king of the Hellenic League at age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shed the rebellion of Thebes – other members quickly brought under his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llenistic Cultur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derivative of the word “hel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lenist” – means Greek; a non-Greek person who adopted the Greek language and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 philosophies penetrated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llenistic Cultur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lenism increased even after Alexander’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Jews took Greek names, wore Greek-styled clothes, and learned the Greek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334 BC, he started his march into Asia to face the Persian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used a unique but effective battle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ght against Darius III who finally turned and ran from the bat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Tyre with the help of engin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Gaza again with the help of engin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 opened its arms to Alexander as its delive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 of Alexandria built in his ho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nt North into the area of Mesopotamia, north of the Tigris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ght Darius III again who fled from the battle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ly, Darius’ own soldiers kill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Story of Alexander the Grea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made his way to India where he turned and settled in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a heavy dri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ontracted a fever and died at age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conquests covered about 12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a friend to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enemies seemed to have been the Jew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lexander’s Successor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his death, his family was in turm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uccessor to his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generals divided up his kingdom and fought each other for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s prophesied in Daniel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ws faired well under Ptolemy (one of the generals) who was located in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riests” ruled over local affairs in Palestine, or Judea as it was then c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446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52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exander The Great’s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6324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Very similar to the Medo Persian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Between the Testaments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, in our study today we will discuss the last 75 years of the Persian empi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we will look at the rise of the Greek states and Alexander the Gre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see the status of the Jews during this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71600" y="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vided Greek Em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blems in the Persian Empire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axerxes Mnemon (405-359 B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a phenomen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ointed by his father, Dar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other wanted his younger brother Cyrus to rule rather than Mne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rus rebe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ed an army to defend the land to the 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ruited 13,000 Greek mercenaries to help his 100,000 man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ght against his brother for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blems in the Persian Empire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wounded in battle, but Cyrus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cenaries returned to Gre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years has passed since the first Cy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axerxes Ochus  (359-338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ointed king by his f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-invigorated the empire for a few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ed Phoenicia, Tyre, Cyprus,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his generals, Bagoas, poisoned him and put his own son, Arses, on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blems in the Persian Empire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ses (338-33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by his father who placed Darius III on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us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king of the Persian emp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w to the Grecian states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hens, Sparta, Corinth and The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of Macedon elected head of united Greece around 340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s found the Persians to be inferior figh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come confident in overthrowing the Persian army in Asia Mi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was assassinated in 33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the Great, his son, becam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nd the Jews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O. T. ended, Nehemiah, Ezra and Malachi prophes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settled in Judea (Jerusalem) and Gali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Jews chose not to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s between the Persians and the Greeks did not directly affect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learned a lesson from cap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nd the Jews..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line was kept pu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ed away from idola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“Jew” and “Gentile” became more notic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agogues formed for sabbath assemb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6:06:09Z</dcterms:created>
  <dc:creator>Frank D Vines</dc:creator>
  <dc:description/>
  <dc:language>en-US</dc:language>
  <cp:lastModifiedBy>Frank D Vines</cp:lastModifiedBy>
  <dcterms:modified xsi:type="dcterms:W3CDTF">2006-06-29T18:42:18Z</dcterms:modified>
  <cp:revision>17</cp:revision>
  <dc:subject/>
  <dc:title>Years Of Silence</dc:title>
</cp:coreProperties>
</file>